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9BE-E638-4451-B668-913D70AB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D2A-72CB-4DA4-9AAB-C4357DA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0E5-FCD2-4132-A6A8-3F226201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540-FAC3-4DD2-8263-D642A806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BB1-3ABF-48D5-90DD-34A412B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C39-B7D0-44F7-89FC-5153EEE9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054-145F-4B79-B62A-9E7B78E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2DF-ABF6-456A-AA7A-ECEA90B2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049-6ABF-4868-A291-1C966D2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93F-138C-42EC-9260-2594026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5FE-ED46-4D29-9596-A417D6B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256-DD2D-4FC7-AC9C-262966A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D108-B4A9-4177-8A72-CFA501F83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19160" y="6093000"/>
            <a:ext cx="88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1672560" y="4941720"/>
            <a:ext cx="57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ІЄПРИСЛІВНИКОВИЙ З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Users\Дмитрий\Desktop\книги старые.gif"/>
          <p:cNvPicPr/>
          <p:nvPr/>
        </p:nvPicPr>
        <p:blipFill>
          <a:blip r:embed="rId1"/>
          <a:stretch/>
        </p:blipFill>
        <p:spPr>
          <a:xfrm>
            <a:off x="2549520" y="1609560"/>
            <a:ext cx="39862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с одним вырезанным углом 2"/>
          <p:cNvSpPr/>
          <p:nvPr/>
        </p:nvSpPr>
        <p:spPr>
          <a:xfrm>
            <a:off x="611280" y="752400"/>
            <a:ext cx="7993080" cy="1311480"/>
          </a:xfrm>
          <a:custGeom>
            <a:avLst/>
            <a:gdLst>
              <a:gd name="textAreaLeft" fmla="*/ 0 w 7993080"/>
              <a:gd name="textAreaRight" fmla="*/ 7884000 w 7993080"/>
              <a:gd name="textAreaTop" fmla="*/ 109080 h 1311480"/>
              <a:gd name="textAreaBottom" fmla="*/ 1311840 h 1311480"/>
            </a:gdLst>
            <a:ahLst/>
            <a:rect l="textAreaLeft" t="textAreaTop" r="textAreaRight" b="textAreaBottom"/>
            <a:pathLst>
              <a:path w="7993062" h="1311275">
                <a:moveTo>
                  <a:pt x="0" y="0"/>
                </a:moveTo>
                <a:lnTo>
                  <a:pt x="7774512" y="0"/>
                </a:lnTo>
                <a:lnTo>
                  <a:pt x="7993062" y="218550"/>
                </a:lnTo>
                <a:lnTo>
                  <a:pt x="7993062" y="1311275"/>
                </a:lnTo>
                <a:lnTo>
                  <a:pt x="0" y="131127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042920" y="9936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у зошит якомога більше слів, що асоціюються у вас зі словом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«гостинні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Дмитрий\Desktop\gosti-1.jpg"/>
          <p:cNvPicPr/>
          <p:nvPr/>
        </p:nvPicPr>
        <p:blipFill>
          <a:blip r:embed="rId1"/>
          <a:stretch/>
        </p:blipFill>
        <p:spPr>
          <a:xfrm>
            <a:off x="934920" y="2421000"/>
            <a:ext cx="7345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с одним вырезанным углом 3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2394000" y="69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редагуйте речення. Поясніть причину поми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808280" y="1844640"/>
            <a:ext cx="57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лухаючи пісню, у мене виникло бажання записати її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Дмитрий\Desktop\415164_398831.jpg"/>
          <p:cNvPicPr/>
          <p:nvPr/>
        </p:nvPicPr>
        <p:blipFill>
          <a:blip r:embed="rId1"/>
          <a:stretch/>
        </p:blipFill>
        <p:spPr>
          <a:xfrm>
            <a:off x="2268360" y="2924280"/>
            <a:ext cx="49975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619360" y="1916280"/>
            <a:ext cx="412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идячи в парку, до нас підійшли товариш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с одним вырезанным углом 2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394000" y="69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редагуйте речення. Поясніть причину поми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C:\Users\Дмитрий\Desktop\Рис 43-10 Лавочка.jpg"/>
          <p:cNvPicPr/>
          <p:nvPr/>
        </p:nvPicPr>
        <p:blipFill>
          <a:blip r:embed="rId1"/>
          <a:stretch/>
        </p:blipFill>
        <p:spPr>
          <a:xfrm>
            <a:off x="2050920" y="292428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079720" y="1844640"/>
            <a:ext cx="52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иходячи зі школи, здавалося учням, що ось-ось піде до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с одним вырезанным углом 2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394000" y="69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редагуйте речення. Поясніть причину поми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Дмитрий\Desktop\50bba05bb57964e6.Ru_pasmurnoe_nebo.jpg"/>
          <p:cNvPicPr/>
          <p:nvPr/>
        </p:nvPicPr>
        <p:blipFill>
          <a:blip r:embed="rId1"/>
          <a:stretch/>
        </p:blipFill>
        <p:spPr>
          <a:xfrm>
            <a:off x="1909800" y="2862360"/>
            <a:ext cx="55404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39640" y="62064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омашнє завдання (за вибо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Виконайте вправу з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Доповніть правила поведінки в гостях, використовуючи дієприслівниковий зворот і одиничний дієприслів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Дмитрий\Desktop\book-and-fountain-pen.gif"/>
          <p:cNvPicPr/>
          <p:nvPr/>
        </p:nvPicPr>
        <p:blipFill>
          <a:blip r:embed="rId1"/>
          <a:stretch/>
        </p:blipFill>
        <p:spPr>
          <a:xfrm>
            <a:off x="3851280" y="3629160"/>
            <a:ext cx="30891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бъект 2"/>
          <p:cNvSpPr/>
          <p:nvPr/>
        </p:nvSpPr>
        <p:spPr>
          <a:xfrm>
            <a:off x="328680" y="692280"/>
            <a:ext cx="8528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© ТОВ «Видавнича група Основа»,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сі уроки української мови. 7 клас. І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еместр / Є. П. Голобородько, К. Ю. Голобородько, О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. Павлик, С. В. Мунтян, І. А. Бондаренко. — Х. : Вид. група «Основа», 2015. — 237, [3] с. —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ерія «Усі уроки»). — ISBN 978-617-00-2470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249800" y="283356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«Щасливий навіть той, хто не маючи друга, живе поруч доброго сусі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121760" y="53737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І. Вих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Users\Дмитрий\Desktop\81044250-2447-40e2-841d-ee1f4bd6e5d0.jpg"/>
          <p:cNvPicPr/>
          <p:nvPr/>
        </p:nvPicPr>
        <p:blipFill>
          <a:blip r:embed="rId1"/>
          <a:stretch/>
        </p:blipFill>
        <p:spPr>
          <a:xfrm>
            <a:off x="782640" y="882720"/>
            <a:ext cx="29606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с одним вырезанным углом 3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1476360" y="25653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ажати, баж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обіцяти, обіц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овідуватися, дові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оказувати, показ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итати, запит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270160" y="87948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оставте правильний на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Дмитрий\Desktop\блокнот.gif"/>
          <p:cNvPicPr/>
          <p:nvPr/>
        </p:nvPicPr>
        <p:blipFill>
          <a:blip r:embed="rId1"/>
          <a:stretch/>
        </p:blipFill>
        <p:spPr>
          <a:xfrm>
            <a:off x="6227640" y="3225960"/>
            <a:ext cx="2125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900000" y="2205000"/>
            <a:ext cx="52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ідповідав — відповідав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ідповів — відповів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авитися, бавлю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авляться — бавляч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радити, рад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радять — радя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лічити, лічу, лічиш, лічимо, лічите, лічать — ліч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одним вырезанным углом 2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270160" y="87948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оставте правильний на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Дмитрий\Desktop\блокнот.gif"/>
          <p:cNvPicPr/>
          <p:nvPr/>
        </p:nvPicPr>
        <p:blipFill>
          <a:blip r:embed="rId1"/>
          <a:stretch/>
        </p:blipFill>
        <p:spPr>
          <a:xfrm>
            <a:off x="6227640" y="3225960"/>
            <a:ext cx="2125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17720" y="2565360"/>
            <a:ext cx="51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оротися, борюся, борешся, борються — борюч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ігти, біжу, біжиш, біжимо, біжать — біж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ести, веду, ведеш, ведемо, ведуть — вед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с одним вырезанным углом 2"/>
          <p:cNvSpPr/>
          <p:nvPr/>
        </p:nvSpPr>
        <p:spPr>
          <a:xfrm>
            <a:off x="1332000" y="533520"/>
            <a:ext cx="6696000" cy="1152360"/>
          </a:xfrm>
          <a:custGeom>
            <a:avLst/>
            <a:gdLst>
              <a:gd name="textAreaLeft" fmla="*/ 0 w 6696000"/>
              <a:gd name="textAreaRight" fmla="*/ 6600240 w 6696000"/>
              <a:gd name="textAreaTop" fmla="*/ 95760 h 1152360"/>
              <a:gd name="textAreaBottom" fmla="*/ 1152720 h 1152360"/>
            </a:gdLst>
            <a:ahLst/>
            <a:rect l="textAreaLeft" t="textAreaTop" r="textAreaRight" b="textAreaBottom"/>
            <a:pathLst>
              <a:path w="6696075" h="1152525">
                <a:moveTo>
                  <a:pt x="0" y="0"/>
                </a:moveTo>
                <a:lnTo>
                  <a:pt x="6503984" y="0"/>
                </a:lnTo>
                <a:lnTo>
                  <a:pt x="6696075" y="192091"/>
                </a:lnTo>
                <a:lnTo>
                  <a:pt x="66960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270160" y="87948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оставте правильний на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Дмитрий\Desktop\блокнот.gif"/>
          <p:cNvPicPr/>
          <p:nvPr/>
        </p:nvPicPr>
        <p:blipFill>
          <a:blip r:embed="rId1"/>
          <a:stretch/>
        </p:blipFill>
        <p:spPr>
          <a:xfrm>
            <a:off x="6227640" y="3225960"/>
            <a:ext cx="2125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8360" y="620640"/>
          <a:ext cx="8064360" cy="335304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ло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оментар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35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ієприслівники минулого час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ідповідав — відповідавши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ідповів — відповівш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ють наголос такий, як і в дієсловах минулого час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35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ієприслівники теперішнього час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бавитися, бавлюся, бавляться — бавлячись; радити, раджу, радять — радяч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творені від дієслів зі сталим наголосом, наголошуються так сам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1" descr="C:\Users\Дмитрий\Desktop\gazeta.gif"/>
          <p:cNvPicPr/>
          <p:nvPr/>
        </p:nvPicPr>
        <p:blipFill>
          <a:blip r:embed="rId1"/>
          <a:stretch/>
        </p:blipFill>
        <p:spPr>
          <a:xfrm>
            <a:off x="4859280" y="3716280"/>
            <a:ext cx="2381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260280"/>
            <a:ext cx="8210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В усному мовленні та в писаних текстах не завжди розрізняють ці два слова. Багато хто каже й пише: дякуючи підтримці, дякуючи допомозі, дякуючи кліматичним умовам тощо. У всіх цих випадках треба вживати прийменника завдяки: завдяки підтримці (допомозі, кліматичним умовам). Наприклад, «Анрі-Жак страждав до ранку й стрів день на ногах тільки завдяки своєму бургундському темпераменту». Слово дякуючи, тобто висловлюючи подяку, є не прийменником, а дієприслівником і доречне в такому контексті: «Після вистави молода співачка кілька разів виходила з‑за лаштунків, усміхаючись і дякуючи слухачам за увагу й тепло»</a:t>
            </a:r>
            <a:r>
              <a:rPr b="1" i="1" lang="en-US" sz="2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C:\Users\Дмитрий\Desktop\241980384.gif"/>
          <p:cNvPicPr/>
          <p:nvPr/>
        </p:nvPicPr>
        <p:blipFill>
          <a:blip r:embed="rId1"/>
          <a:stretch/>
        </p:blipFill>
        <p:spPr>
          <a:xfrm>
            <a:off x="5132520" y="4653000"/>
            <a:ext cx="2271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79280" y="189000"/>
            <a:ext cx="885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200" spc="-1" strike="noStrike">
                <a:solidFill>
                  <a:srgbClr val="00b050"/>
                </a:solidFill>
                <a:latin typeface="Arial"/>
              </a:rPr>
              <a:t>Гостіння — явище традиційно давнє, характерне багатьом народам. Це один з важливих атрибутів етичного й естетичного співжиття, колективного дозвілля й спілкування, активна форма відпочинку. У середовищі простого народу погостіння було елементом демократичного спілкування, де набирали сили громадянські ідеї, гуртувалися громадські осередки. Воднораз такі гостини не тільки зберігали традиції, а й були підґрунтям для витоків народної творчості — пісень, танків, приказок та прислів’їв, поетичних форм народного пошанування тощ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200" spc="-1" strike="noStrike">
                <a:solidFill>
                  <a:srgbClr val="00b050"/>
                </a:solidFill>
                <a:latin typeface="Arial"/>
              </a:rPr>
              <a:t>Гості, гостинність, погостіння, господиня… Які милозвучні ці слова, що походять з одного кореня! Вдало організована гостина — це і відпочинок, етична й естетична форма дозвілля, нарешті, рівень загальної культури у взаєминах і спілкуванні. Ідучи до знайомих й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запрошуючи </a:t>
            </a:r>
            <a:r>
              <a:rPr b="0" i="1" lang="uk-UA" sz="2200" spc="-1" strike="noStrike">
                <a:solidFill>
                  <a:srgbClr val="00b050"/>
                </a:solidFill>
                <a:latin typeface="Arial"/>
              </a:rPr>
              <a:t>їх до себе, маємо пам’ятати про первісний зміст цього прекрасного звичаю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Дмитрий\Desktop\Untitled2-2.gif"/>
          <p:cNvPicPr/>
          <p:nvPr/>
        </p:nvPicPr>
        <p:blipFill>
          <a:blip r:embed="rId1"/>
          <a:stretch/>
        </p:blipFill>
        <p:spPr>
          <a:xfrm>
            <a:off x="5219640" y="5662440"/>
            <a:ext cx="1585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с одним вырезанным углом 3"/>
          <p:cNvSpPr/>
          <p:nvPr/>
        </p:nvSpPr>
        <p:spPr>
          <a:xfrm>
            <a:off x="611280" y="533520"/>
            <a:ext cx="7993080" cy="1311120"/>
          </a:xfrm>
          <a:custGeom>
            <a:avLst/>
            <a:gdLst>
              <a:gd name="textAreaLeft" fmla="*/ 0 w 7993080"/>
              <a:gd name="textAreaRight" fmla="*/ 7884000 w 7993080"/>
              <a:gd name="textAreaTop" fmla="*/ 109080 h 1311120"/>
              <a:gd name="textAreaBottom" fmla="*/ 1311480 h 1311120"/>
            </a:gdLst>
            <a:ahLst/>
            <a:rect l="textAreaLeft" t="textAreaTop" r="textAreaRight" b="textAreaBottom"/>
            <a:pathLst>
              <a:path w="7993062" h="1311275">
                <a:moveTo>
                  <a:pt x="0" y="0"/>
                </a:moveTo>
                <a:lnTo>
                  <a:pt x="7774512" y="0"/>
                </a:lnTo>
                <a:lnTo>
                  <a:pt x="7993062" y="218550"/>
                </a:lnTo>
                <a:lnTo>
                  <a:pt x="7993062" y="1311275"/>
                </a:lnTo>
                <a:lnTo>
                  <a:pt x="0" y="1311275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403280" y="57636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берігаючи зміст народних прислів’їв, перебудуйте їх так, щоб утворилися речення з дієприслівниковим зв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22748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 не брехне, так не дих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 не матимеш друга, не матимеш вор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 прийде туга, пізнаєш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 вітер не дме, то й листя не шелес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 води боятися, то не куп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добудеш освіту — побачиш більше сві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7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Щастя — не підкова, під ногами не знайдеш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C:\Users\Дмитрий\Desktop\тетрадь (2).gif"/>
          <p:cNvPicPr/>
          <p:nvPr/>
        </p:nvPicPr>
        <p:blipFill>
          <a:blip r:embed="rId1"/>
          <a:stretch/>
        </p:blipFill>
        <p:spPr>
          <a:xfrm>
            <a:off x="4567320" y="5013360"/>
            <a:ext cx="214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k10-4</cp:lastModifiedBy>
  <dcterms:modified xsi:type="dcterms:W3CDTF">2016-05-11T12:30:1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