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CB0-E74D-472E-8ADA-BE81EE56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7B6-33D5-4BDE-ADAC-296802F7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8FA-986F-4FA2-88F4-FA972C85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E72-BEF4-40C1-9231-9E04ABB4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1BE-1E7E-4303-A1D7-3C698C37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D34D-1350-4949-A9E1-3D572B58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DD1B-351F-4FAA-A3D3-25CD2901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C126-6EA4-45C4-8959-DB59EC7D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7A31-A24F-428A-BE07-817CC28D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C76F-6462-4A09-BD71-B7D66461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0B9-87A0-4079-B72D-D6B24839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3998-0E41-4C8B-9982-2349112E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3C16-5647-453F-856B-6CAD50C6FA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119160" y="6093000"/>
            <a:ext cx="884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езентацію створено за допомогою комп’ютерної програми  ВГ «Основа» «Електронний конструктор уроку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3708360" y="2133720"/>
            <a:ext cx="495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УРОК РОЗВИТКУ КОМУНІКАТИВНИХ УМІНЬ №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ПОВТОРЕННЯ ВИВЧЕНОГО ПРО СТИЛІ МОВЛЕННЯ. ПОНЯТТЯ ПРО ПУБЛІЦИСТИЧНИЙ СТИ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Users\Дмитрий\Desktop\книги 23.gif"/>
          <p:cNvPicPr/>
          <p:nvPr/>
        </p:nvPicPr>
        <p:blipFill>
          <a:blip r:embed="rId1"/>
          <a:stretch/>
        </p:blipFill>
        <p:spPr>
          <a:xfrm>
            <a:off x="684360" y="2484360"/>
            <a:ext cx="28810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Овальная выноска 2"/>
          <p:cNvSpPr/>
          <p:nvPr/>
        </p:nvSpPr>
        <p:spPr>
          <a:xfrm>
            <a:off x="1020600" y="1076400"/>
            <a:ext cx="4751640" cy="2232000"/>
          </a:xfrm>
          <a:prstGeom prst="wedgeEllipseCallout">
            <a:avLst>
              <a:gd name="adj1" fmla="val 22750"/>
              <a:gd name="adj2" fmla="val 66032"/>
            </a:avLst>
          </a:prstGeom>
          <a:solidFill>
            <a:srgbClr val="fdeada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1976400" y="1776240"/>
            <a:ext cx="28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79646"/>
                </a:solidFill>
                <a:latin typeface="Arial"/>
              </a:rPr>
              <a:t>Для мене новим бул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C:\Users\Дмитрий\Desktop\2356156.gif"/>
          <p:cNvPicPr/>
          <p:nvPr/>
        </p:nvPicPr>
        <p:blipFill>
          <a:blip r:embed="rId1"/>
          <a:stretch/>
        </p:blipFill>
        <p:spPr>
          <a:xfrm>
            <a:off x="6012000" y="2192400"/>
            <a:ext cx="229392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Овальная выноска 2"/>
          <p:cNvSpPr/>
          <p:nvPr/>
        </p:nvSpPr>
        <p:spPr>
          <a:xfrm>
            <a:off x="1020600" y="1076400"/>
            <a:ext cx="4751640" cy="2232000"/>
          </a:xfrm>
          <a:prstGeom prst="wedgeEllipseCallout">
            <a:avLst>
              <a:gd name="adj1" fmla="val 22750"/>
              <a:gd name="adj2" fmla="val 66032"/>
            </a:avLst>
          </a:prstGeom>
          <a:solidFill>
            <a:srgbClr val="ebf1de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1951200" y="1776240"/>
            <a:ext cx="289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Arial"/>
              </a:rPr>
              <a:t>Вивчене на уроці для мен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C:\Users\Дмитрий\Desktop\2356156.gif"/>
          <p:cNvPicPr/>
          <p:nvPr/>
        </p:nvPicPr>
        <p:blipFill>
          <a:blip r:embed="rId1"/>
          <a:stretch/>
        </p:blipFill>
        <p:spPr>
          <a:xfrm>
            <a:off x="6012000" y="2192400"/>
            <a:ext cx="229392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826920" y="692280"/>
            <a:ext cx="756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79646"/>
                </a:solidFill>
                <a:latin typeface="Arial"/>
              </a:rPr>
              <a:t>Домашнє завдання (за вибор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70c0"/>
                </a:solidFill>
                <a:latin typeface="Arial"/>
              </a:rPr>
              <a:t>Виконайте вправу з підруч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70c0"/>
                </a:solidFill>
                <a:latin typeface="Arial"/>
              </a:rPr>
              <a:t>Доберіть текст публіцистичного стилю, сформулюйте свій </a:t>
            </a:r>
            <a:r>
              <a:rPr b="1" lang="uk-UA" sz="2800" spc="-1" strike="noStrike">
                <a:solidFill>
                  <a:srgbClr val="0070c0"/>
                </a:solidFill>
                <a:latin typeface="Arial"/>
              </a:rPr>
              <a:t>погляд на пробл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C:\Users\Дмитрий\Desktop\book-and-fountain-pen.gif"/>
          <p:cNvPicPr/>
          <p:nvPr/>
        </p:nvPicPr>
        <p:blipFill>
          <a:blip r:embed="rId1"/>
          <a:stretch/>
        </p:blipFill>
        <p:spPr>
          <a:xfrm>
            <a:off x="3203640" y="3494160"/>
            <a:ext cx="34862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Объект 2"/>
          <p:cNvSpPr/>
          <p:nvPr/>
        </p:nvSpPr>
        <p:spPr>
          <a:xfrm>
            <a:off x="328680" y="692280"/>
            <a:ext cx="852804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езентацію створено за допомогою комп’ютерної програми  ВГ «Основа» «Електронний конструктор уроку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© ТОВ «Видавнича група Основа»,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жерел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Усі уроки української мови. 7 клас. І семестр / Є. П. Голобородько, К. Ю. Голобородько, О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. Павлик, С. В. Мунтян, І. А. Бондаренко. — Х. : Вид. група «Основа», 2015. — 237, [3] с. —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Серія «Усі уроки»). — ISBN 978-617-00-2470-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142800" y="4618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Заповніть таблиц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0920" y="1341360"/>
          <a:ext cx="8640720" cy="2683080"/>
        </p:xfrm>
        <a:graphic>
          <a:graphicData uri="http://schemas.openxmlformats.org/drawingml/2006/table">
            <a:tbl>
              <a:tblPr/>
              <a:tblGrid>
                <a:gridCol w="2342880"/>
                <a:gridCol w="2051280"/>
                <a:gridCol w="1611360"/>
                <a:gridCol w="1609560"/>
                <a:gridCol w="1025640"/>
              </a:tblGrid>
              <a:tr h="670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Стил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мовлен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Мета використан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Стильові озна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Мовні озна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Жанр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ауков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67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Офіційно-ділов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Художні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Публіцистичн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35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Розмовн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70c0"/>
                      </a:solidFill>
                    </a:lnL>
                    <a:lnR w="18720">
                      <a:solidFill>
                        <a:srgbClr val="0070c0"/>
                      </a:solidFill>
                    </a:lnR>
                    <a:lnT w="18720">
                      <a:solidFill>
                        <a:srgbClr val="0070c0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46" name="Picture 1" descr="C:\Users\Дмитрий\Desktop\76968101_large_3914090_0_4e758_afaa08d8_orig.gif"/>
          <p:cNvPicPr/>
          <p:nvPr/>
        </p:nvPicPr>
        <p:blipFill>
          <a:blip r:embed="rId1"/>
          <a:stretch/>
        </p:blipFill>
        <p:spPr>
          <a:xfrm>
            <a:off x="3995640" y="3213000"/>
            <a:ext cx="321480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50920" y="26028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Текст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Податки — одна з найважливіших фінансових категорій. Історично це найдавніша форма фінансових відношень між державою та членами суспільства. Саме виникнення держави призвело до появи платежів і внесків до державної казни для фінансового забезпечення виконання державою її функц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Users\Дмитрий\Desktop\27166_image_large.jpg"/>
          <p:cNvPicPr/>
          <p:nvPr/>
        </p:nvPicPr>
        <p:blipFill>
          <a:blip r:embed="rId1"/>
          <a:stretch/>
        </p:blipFill>
        <p:spPr>
          <a:xfrm>
            <a:off x="1835280" y="3213000"/>
            <a:ext cx="547344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250920" y="333360"/>
            <a:ext cx="86058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f79646"/>
                </a:solidFill>
                <a:latin typeface="Arial"/>
              </a:rPr>
              <a:t>Текст 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i="1" lang="uk-UA" sz="2300" spc="-1" strike="noStrike">
                <a:solidFill>
                  <a:srgbClr val="00b050"/>
                </a:solidFill>
                <a:latin typeface="Arial"/>
              </a:rPr>
              <a:t>Провесна. По узліссі і на галяві зеленіє перший ряст і цвітуть проліски та сон-трава. Дерева ще безлисті, але вкриті бростю, що от-от має розкритись. На озері туман то лежить пеленою, то хвилюється од вітру, то розривається, одкриваючи блідо-блакитну воду. В лісі щось загомоніло, струмок зашумував, забринів… (Леся Українк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C:\Users\Дмитрий\Desktop\801a94s-960.jpg"/>
          <p:cNvPicPr/>
          <p:nvPr/>
        </p:nvPicPr>
        <p:blipFill>
          <a:blip r:embed="rId1"/>
          <a:srcRect l="0" t="9857" r="0" b="0"/>
          <a:stretch/>
        </p:blipFill>
        <p:spPr>
          <a:xfrm>
            <a:off x="1781280" y="3141720"/>
            <a:ext cx="554508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95280" y="33336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Текст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«Предметом застави не можуть бути об’єкти державної власності, приватизація яких заборонена законодавчими актами, а також майнові комплекси державних підприємств та їх структурних підрозділів, що знаходяться у процесі корпоратизації. Крім того, не можуть бути предметом застави цілісні майнові комплекси та їх структурні підрозділи підприємств, майно та кошти благодійних організацій» (Закон України «Про заставу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C:\Users\Дмитрий\Desktop\Untitled-1.gif"/>
          <p:cNvPicPr/>
          <p:nvPr/>
        </p:nvPicPr>
        <p:blipFill>
          <a:blip r:embed="rId1"/>
          <a:stretch/>
        </p:blipFill>
        <p:spPr>
          <a:xfrm>
            <a:off x="3635280" y="4118040"/>
            <a:ext cx="32403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635280" y="184932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Текст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— </a:t>
            </a: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Грицю! — сказав бать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— </a:t>
            </a: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Га! — сказав Гриц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— </a:t>
            </a: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Видиш оту ха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— </a:t>
            </a: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Вид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— </a:t>
            </a: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Пам’ятай собі, се шк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— </a:t>
            </a: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Ба, — сказав Гриц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— </a:t>
            </a: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Сюди будеш ходити вчити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— </a:t>
            </a: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Ба, — сказав Гриц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C:\Users\Дмитрий\Desktop\Рис 36-09 Грицева школьная наука 02.jpg"/>
          <p:cNvPicPr/>
          <p:nvPr/>
        </p:nvPicPr>
        <p:blipFill>
          <a:blip r:embed="rId1"/>
          <a:stretch/>
        </p:blipFill>
        <p:spPr>
          <a:xfrm>
            <a:off x="468360" y="1608120"/>
            <a:ext cx="289224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284040" y="33336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Текст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0" i="1" lang="uk-UA" sz="2400" spc="-1" strike="noStrike">
                <a:solidFill>
                  <a:srgbClr val="00b050"/>
                </a:solidFill>
                <a:latin typeface="Arial"/>
              </a:rPr>
              <a:t>Віками народ витворював цю мову, витворив її, одну з найбагатших мов слов’янства, триста тисяч пісень склала Україна цією мовою, зокрема явивши пісенні шедеври незрівнянної краси, дала світові Україна геніальних поетів, зажило українське слово шани й визнання серед народів близьких і далеких (О. Гонча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C:\Users\Дмитрий\Desktop\Untitled-2.gif"/>
          <p:cNvPicPr/>
          <p:nvPr/>
        </p:nvPicPr>
        <p:blipFill>
          <a:blip r:embed="rId1"/>
          <a:stretch/>
        </p:blipFill>
        <p:spPr>
          <a:xfrm>
            <a:off x="2843280" y="3500280"/>
            <a:ext cx="411156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Лента лицом вверх 2"/>
          <p:cNvSpPr/>
          <p:nvPr/>
        </p:nvSpPr>
        <p:spPr>
          <a:xfrm>
            <a:off x="720720" y="5459400"/>
            <a:ext cx="7561440" cy="720720"/>
          </a:xfrm>
          <a:custGeom>
            <a:avLst/>
            <a:gdLst>
              <a:gd name="textAreaLeft" fmla="*/ 1343880 w 7561440"/>
              <a:gd name="textAreaRight" fmla="*/ 6217560 w 7561440"/>
              <a:gd name="textAreaTop" fmla="*/ 0 h 720720"/>
              <a:gd name="textAreaBottom" fmla="*/ 600840 h 720720"/>
            </a:gdLst>
            <a:ahLst/>
            <a:rect l="textAreaLeft" t="textAreaTop" r="textAreaRight" b="textAreaBottom"/>
            <a:pathLst>
              <a:path w="21600" h="21600">
                <a:moveTo>
                  <a:pt x="6539" y="18000"/>
                </a:moveTo>
                <a:lnTo>
                  <a:pt x="6539" y="20700"/>
                </a:lnTo>
                <a:cubicBezTo>
                  <a:pt x="6539" y="21150"/>
                  <a:pt x="6119" y="21600"/>
                  <a:pt x="5699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3839" y="3600"/>
                </a:lnTo>
                <a:lnTo>
                  <a:pt x="3839" y="900"/>
                </a:lnTo>
                <a:cubicBezTo>
                  <a:pt x="3839" y="450"/>
                  <a:pt x="4259" y="0"/>
                  <a:pt x="4679" y="0"/>
                </a:cubicBezTo>
                <a:lnTo>
                  <a:pt x="16921" y="0"/>
                </a:lnTo>
                <a:cubicBezTo>
                  <a:pt x="17341" y="0"/>
                  <a:pt x="17761" y="450"/>
                  <a:pt x="17761" y="900"/>
                </a:cubicBezTo>
                <a:lnTo>
                  <a:pt x="17761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5901" y="21600"/>
                </a:lnTo>
                <a:cubicBezTo>
                  <a:pt x="15481" y="21600"/>
                  <a:pt x="15061" y="21150"/>
                  <a:pt x="15061" y="20700"/>
                </a:cubicBezTo>
                <a:lnTo>
                  <a:pt x="15061" y="18000"/>
                </a:lnTo>
                <a:close/>
              </a:path>
              <a:path fill="darkenLess" w="21600" h="21600">
                <a:moveTo>
                  <a:pt x="6539" y="18000"/>
                </a:moveTo>
                <a:lnTo>
                  <a:pt x="6539" y="20700"/>
                </a:lnTo>
                <a:cubicBezTo>
                  <a:pt x="6539" y="20250"/>
                  <a:pt x="6119" y="19800"/>
                  <a:pt x="5699" y="19800"/>
                </a:cubicBezTo>
                <a:lnTo>
                  <a:pt x="4679" y="19800"/>
                </a:lnTo>
                <a:cubicBezTo>
                  <a:pt x="4259" y="19800"/>
                  <a:pt x="3839" y="19350"/>
                  <a:pt x="3839" y="18900"/>
                </a:cubicBezTo>
                <a:cubicBezTo>
                  <a:pt x="3839" y="18450"/>
                  <a:pt x="4259" y="18000"/>
                  <a:pt x="4679" y="18000"/>
                </a:cubicBezTo>
                <a:close/>
              </a:path>
              <a:path fill="darkenLess" w="21600" h="21600">
                <a:moveTo>
                  <a:pt x="15061" y="18000"/>
                </a:moveTo>
                <a:lnTo>
                  <a:pt x="15061" y="20700"/>
                </a:lnTo>
                <a:cubicBezTo>
                  <a:pt x="15061" y="20250"/>
                  <a:pt x="15481" y="19800"/>
                  <a:pt x="15901" y="19800"/>
                </a:cubicBezTo>
                <a:lnTo>
                  <a:pt x="16921" y="19800"/>
                </a:lnTo>
                <a:cubicBezTo>
                  <a:pt x="17341" y="19800"/>
                  <a:pt x="17761" y="19350"/>
                  <a:pt x="17761" y="18900"/>
                </a:cubicBezTo>
                <a:cubicBezTo>
                  <a:pt x="17761" y="18450"/>
                  <a:pt x="17341" y="18000"/>
                  <a:pt x="16921" y="18000"/>
                </a:cubicBezTo>
                <a:close/>
              </a:path>
              <a:path fill="darkenLess" w="21600" h="21600">
                <a:moveTo>
                  <a:pt x="3839" y="18900"/>
                </a:moveTo>
                <a:lnTo>
                  <a:pt x="3839" y="3600"/>
                </a:lnTo>
              </a:path>
              <a:path fill="darkenLess" w="21600" h="21600">
                <a:moveTo>
                  <a:pt x="17761" y="18900"/>
                </a:moveTo>
                <a:lnTo>
                  <a:pt x="17761" y="3600"/>
                </a:lnTo>
              </a:path>
            </a:pathLst>
          </a:custGeom>
          <a:solidFill>
            <a:srgbClr val="fdeada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2625480" y="5511960"/>
            <a:ext cx="37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79646"/>
                </a:solidFill>
                <a:latin typeface="Arial"/>
              </a:rPr>
              <a:t>«Мова — душа народ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C:\Users\Дмитрий\Desktop\Untitled-3.gif"/>
          <p:cNvPicPr/>
          <p:nvPr/>
        </p:nvPicPr>
        <p:blipFill>
          <a:blip r:embed="rId1"/>
          <a:stretch/>
        </p:blipFill>
        <p:spPr>
          <a:xfrm>
            <a:off x="2063880" y="635040"/>
            <a:ext cx="4875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Овальная выноска 2"/>
          <p:cNvSpPr/>
          <p:nvPr/>
        </p:nvSpPr>
        <p:spPr>
          <a:xfrm>
            <a:off x="1020600" y="1076400"/>
            <a:ext cx="4751640" cy="2232000"/>
          </a:xfrm>
          <a:prstGeom prst="wedgeEllipseCallout">
            <a:avLst>
              <a:gd name="adj1" fmla="val 22750"/>
              <a:gd name="adj2" fmla="val 66032"/>
            </a:avLst>
          </a:prstGeom>
          <a:solidFill>
            <a:srgbClr val="dbee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1508040" y="1776240"/>
            <a:ext cx="382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70c0"/>
                </a:solidFill>
                <a:latin typeface="Arial"/>
              </a:rPr>
              <a:t>Тема мені сподобалася тим, щ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C:\Users\Дмитрий\Desktop\2356156.gif"/>
          <p:cNvPicPr/>
          <p:nvPr/>
        </p:nvPicPr>
        <p:blipFill>
          <a:blip r:embed="rId1"/>
          <a:stretch/>
        </p:blipFill>
        <p:spPr>
          <a:xfrm>
            <a:off x="6012000" y="2192400"/>
            <a:ext cx="229392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5:28:58Z</dcterms:created>
  <dc:creator/>
  <dc:description/>
  <dc:language>en-US</dc:language>
  <cp:lastModifiedBy>k10-4</cp:lastModifiedBy>
  <dcterms:modified xsi:type="dcterms:W3CDTF">2016-05-11T12:09:46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ookName">
    <vt:lpwstr/>
  </property>
  <property fmtid="{D5CDD505-2E9C-101B-9397-08002B2CF9AE}" pid="3" name="IsFreeze">
    <vt:bool>0</vt:bool>
  </property>
  <property fmtid="{D5CDD505-2E9C-101B-9397-08002B2CF9AE}" pid="4" name="MayClose">
    <vt:bool>0</vt:bool>
  </property>
  <property fmtid="{D5CDD505-2E9C-101B-9397-08002B2CF9AE}" pid="5" name="UserClose">
    <vt:bool>0</vt:bool>
  </property>
</Properties>
</file>