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61D-4DC7-4BE2-A627-F11AB32C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A0E-47F6-4FBD-8457-6DE1559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6E8-2AF0-4A49-9DA6-8C753EE3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09D-3D61-493C-A4AB-C85452E5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E7F-399D-4ABC-9AF4-846D68FC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8A5-4909-4DE6-ABFD-EDE3213C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FA6-6AD6-4F42-BAC3-7150E84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1502-F474-42C8-A8FC-5B5E6DC0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A95-3B3C-4052-A502-A5275A96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4FD-560D-4D72-836C-538F4D14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D25-5EF9-4E63-A9F3-228387D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D76-4D9E-46A8-BAC6-27B6D1C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36D7-1E7B-41C2-82E6-CF4256A4D2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19160" y="6093000"/>
            <a:ext cx="88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зентацію створено за допомогою комп’ютерної програми  ВГ «Основа» «Електронний конструктор уроку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488880" y="4221000"/>
            <a:ext cx="8107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НАПИСАННЯ </a:t>
            </a:r>
            <a:r>
              <a:rPr b="1" lang="uk-UA" sz="2600" spc="-1" strike="noStrike">
                <a:solidFill>
                  <a:srgbClr val="f79646"/>
                </a:solidFill>
                <a:latin typeface="Arial"/>
              </a:rPr>
              <a:t>-</a:t>
            </a:r>
            <a:r>
              <a:rPr b="1" i="1" lang="uk-UA" sz="2600" spc="-1" strike="noStrike">
                <a:solidFill>
                  <a:srgbClr val="f79646"/>
                </a:solidFill>
                <a:latin typeface="Arial"/>
              </a:rPr>
              <a:t>Н</a:t>
            </a:r>
            <a:r>
              <a:rPr b="1" lang="uk-UA" sz="2600" spc="-1" strike="noStrike">
                <a:solidFill>
                  <a:srgbClr val="f79646"/>
                </a:solidFill>
                <a:latin typeface="Arial"/>
              </a:rPr>
              <a:t>‑ </a:t>
            </a: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У ДІЄПРИКМЕТНИКАХ ТА </a:t>
            </a:r>
            <a:r>
              <a:rPr b="1" lang="uk-UA" sz="2600" spc="-1" strike="noStrike">
                <a:solidFill>
                  <a:srgbClr val="f79646"/>
                </a:solidFill>
                <a:latin typeface="Arial"/>
              </a:rPr>
              <a:t>-</a:t>
            </a:r>
            <a:r>
              <a:rPr b="1" i="1" lang="uk-UA" sz="2600" spc="-1" strike="noStrike">
                <a:solidFill>
                  <a:srgbClr val="f79646"/>
                </a:solidFill>
                <a:latin typeface="Arial"/>
              </a:rPr>
              <a:t>НН</a:t>
            </a:r>
            <a:r>
              <a:rPr b="1" lang="uk-UA" sz="2600" spc="-1" strike="noStrike">
                <a:solidFill>
                  <a:srgbClr val="f79646"/>
                </a:solidFill>
                <a:latin typeface="Arial"/>
              </a:rPr>
              <a:t>- </a:t>
            </a:r>
            <a:r>
              <a:rPr b="1" lang="uk-UA" sz="2600" spc="-1" strike="noStrike">
                <a:solidFill>
                  <a:srgbClr val="0070c0"/>
                </a:solidFill>
                <a:latin typeface="Arial"/>
              </a:rPr>
              <a:t>У ПРИКМЕТНИКАХ ДІЄПРИКМЕТНИКОВОГО ПОХОД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Дмитрий\Desktop\книги 23.gif"/>
          <p:cNvPicPr/>
          <p:nvPr/>
        </p:nvPicPr>
        <p:blipFill>
          <a:blip r:embed="rId1"/>
          <a:stretch/>
        </p:blipFill>
        <p:spPr>
          <a:xfrm>
            <a:off x="3059280" y="836640"/>
            <a:ext cx="32382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Горизонтальный свиток 3"/>
          <p:cNvSpPr/>
          <p:nvPr/>
        </p:nvSpPr>
        <p:spPr>
          <a:xfrm>
            <a:off x="1368360" y="480960"/>
            <a:ext cx="6407280" cy="108108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2615760" y="79056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Дієприкметник — ц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4960" y="2349360"/>
            <a:ext cx="605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А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особлива форма дієслова, що виражає ознаку предмета за д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Б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особлива незмінювана форма дієслова, що означає додаткову д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В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самостійна частина мови, що виражає дію предмета або 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Дмитрий\Desktop\вопрос.gif"/>
          <p:cNvPicPr/>
          <p:nvPr/>
        </p:nvPicPr>
        <p:blipFill>
          <a:blip r:embed="rId1"/>
          <a:stretch/>
        </p:blipFill>
        <p:spPr>
          <a:xfrm>
            <a:off x="6570720" y="2997360"/>
            <a:ext cx="18000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Горизонтальный свиток 3"/>
          <p:cNvSpPr/>
          <p:nvPr/>
        </p:nvSpPr>
        <p:spPr>
          <a:xfrm>
            <a:off x="1368360" y="480960"/>
            <a:ext cx="6407280" cy="108108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1661040" y="790560"/>
            <a:ext cx="58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Дієприкметник має властивост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1547640" y="278136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А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дієслова й прислі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Б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дієслова й прикме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В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дієслова, прикметника й прислі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:\Users\Дмитрий\Desktop\вопрос.gif"/>
          <p:cNvPicPr/>
          <p:nvPr/>
        </p:nvPicPr>
        <p:blipFill>
          <a:blip r:embed="rId1"/>
          <a:stretch/>
        </p:blipFill>
        <p:spPr>
          <a:xfrm>
            <a:off x="6570720" y="2997360"/>
            <a:ext cx="18000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Горизонтальный свиток 3"/>
          <p:cNvSpPr/>
          <p:nvPr/>
        </p:nvSpPr>
        <p:spPr>
          <a:xfrm>
            <a:off x="1368360" y="480960"/>
            <a:ext cx="6407280" cy="108108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1666800" y="79056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Дієприкметниковий зворот — ц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971640" y="2133720"/>
            <a:ext cx="519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А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дієприкметник з будь-яки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Б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дієприкметник з означувани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В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дієприкметник разом із залежними від нього сл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Дмитрий\Desktop\вопрос.gif"/>
          <p:cNvPicPr/>
          <p:nvPr/>
        </p:nvPicPr>
        <p:blipFill>
          <a:blip r:embed="rId1"/>
          <a:stretch/>
        </p:blipFill>
        <p:spPr>
          <a:xfrm>
            <a:off x="6570720" y="2997360"/>
            <a:ext cx="180000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Горизонтальный свиток 3"/>
          <p:cNvSpPr/>
          <p:nvPr/>
        </p:nvSpPr>
        <p:spPr>
          <a:xfrm>
            <a:off x="1368360" y="480960"/>
            <a:ext cx="6407280" cy="129240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2073240" y="711360"/>
            <a:ext cx="49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Пасивні дієприкметники виражають ознаку за діє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692360" y="2421000"/>
            <a:ext cx="434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А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яку виконує сам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Б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яку виконує над ним інший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В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яка переходить на інший пред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Дмитрий\Desktop\вопрос 2.gif"/>
          <p:cNvPicPr/>
          <p:nvPr/>
        </p:nvPicPr>
        <p:blipFill>
          <a:blip r:embed="rId1"/>
          <a:stretch/>
        </p:blipFill>
        <p:spPr>
          <a:xfrm>
            <a:off x="5292720" y="2924280"/>
            <a:ext cx="3422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Горизонтальный свиток 4"/>
          <p:cNvSpPr/>
          <p:nvPr/>
        </p:nvSpPr>
        <p:spPr>
          <a:xfrm>
            <a:off x="1368360" y="480960"/>
            <a:ext cx="6407280" cy="194004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1763640" y="85104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Активні дієприкметники теперішнього часу утворюються за допомогою суфіксі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1908000" y="2997360"/>
            <a:ext cx="358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А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-ен-, -н‑, -т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Б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-л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В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-уч-, -юч-, -ач-, -яч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Users\Дмитрий\Desktop\вопрос 2.gif"/>
          <p:cNvPicPr/>
          <p:nvPr/>
        </p:nvPicPr>
        <p:blipFill>
          <a:blip r:embed="rId1"/>
          <a:stretch/>
        </p:blipFill>
        <p:spPr>
          <a:xfrm>
            <a:off x="5292720" y="2924280"/>
            <a:ext cx="3422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Горизонтальный свиток 4"/>
          <p:cNvSpPr/>
          <p:nvPr/>
        </p:nvSpPr>
        <p:spPr>
          <a:xfrm>
            <a:off x="1368360" y="480960"/>
            <a:ext cx="6407280" cy="1292400"/>
          </a:xfrm>
          <a:prstGeom prst="horizontalScroll">
            <a:avLst>
              <a:gd name="adj" fmla="val 12500"/>
            </a:avLst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2050920" y="712800"/>
            <a:ext cx="51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6.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Активні дієприкметники минулого часу утворюють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826920" y="2133720"/>
            <a:ext cx="498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А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ід основи теперішнього часу перехідних і неперехідних дієс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Б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ід основи неозначеної форми неперехідних дієслів доконаного ви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В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від основи неозначеної форми перехідних дієс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Users\Дмитрий\Desktop\вопрос 2.gif"/>
          <p:cNvPicPr/>
          <p:nvPr/>
        </p:nvPicPr>
        <p:blipFill>
          <a:blip r:embed="rId1"/>
          <a:stretch/>
        </p:blipFill>
        <p:spPr>
          <a:xfrm>
            <a:off x="5292720" y="2924280"/>
            <a:ext cx="3422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393840"/>
            <a:ext cx="7912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Домашнє завдання (за вибо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Виконайте вправу з підру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Підготуйте висловлювання на тему «Моє хобі», використовуючи дієприкметники з -н‑ та прикметники дієприкметникового походження з -нн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Users\Дмитрий\Desktop\book-and-fountain-pen.gif"/>
          <p:cNvPicPr/>
          <p:nvPr/>
        </p:nvPicPr>
        <p:blipFill>
          <a:blip r:embed="rId1"/>
          <a:stretch/>
        </p:blipFill>
        <p:spPr>
          <a:xfrm>
            <a:off x="3780000" y="3789360"/>
            <a:ext cx="3008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Объект 2"/>
          <p:cNvSpPr/>
          <p:nvPr/>
        </p:nvSpPr>
        <p:spPr>
          <a:xfrm>
            <a:off x="328680" y="692280"/>
            <a:ext cx="85280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’ютерної програми  ВГ «Основа» «Електронний конструктор уроку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© ТОВ «Видавнича група Основа»,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Усі уроки української мови. 7 клас. І семестр / Є. П. Голобородько, К. Ю. Голобородько, О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. Павлик, С. В. Мунтян, І. А. Бондаренко. — Х. : Вид. група «Основа», 2015. — 237, [3] с. —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ерія «Усі уроки»). — ISBN 978-617-00-2470-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с одним вырезанным углом 3"/>
          <p:cNvSpPr/>
          <p:nvPr/>
        </p:nvSpPr>
        <p:spPr>
          <a:xfrm>
            <a:off x="1096920" y="349200"/>
            <a:ext cx="6950160" cy="1049400"/>
          </a:xfrm>
          <a:custGeom>
            <a:avLst/>
            <a:gdLst>
              <a:gd name="textAreaLeft" fmla="*/ 0 w 6950160"/>
              <a:gd name="textAreaRight" fmla="*/ 6863040 w 6950160"/>
              <a:gd name="textAreaTop" fmla="*/ 87480 h 1049400"/>
              <a:gd name="textAreaBottom" fmla="*/ 1049760 h 1049400"/>
            </a:gdLst>
            <a:ahLst/>
            <a:rect l="textAreaLeft" t="textAreaTop" r="textAreaRight" b="textAreaBottom"/>
            <a:pathLst>
              <a:path w="6950075" h="1049338">
                <a:moveTo>
                  <a:pt x="0" y="0"/>
                </a:moveTo>
                <a:lnTo>
                  <a:pt x="6775182" y="0"/>
                </a:lnTo>
                <a:lnTo>
                  <a:pt x="6950075" y="174893"/>
                </a:lnTo>
                <a:lnTo>
                  <a:pt x="6950075" y="1049338"/>
                </a:lnTo>
                <a:lnTo>
                  <a:pt x="0" y="1049338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1461600" y="642960"/>
            <a:ext cx="62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речення, поясніть орфог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89080" y="1700280"/>
            <a:ext cx="716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Немало прож..то, ще більш пер..жи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Добре, що у полі колиш..ться жи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Не все тобою пер..думано, не всі проспівано піс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Але в ж..тті моїм ще втрач..но не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Б..гато зірочок бл..скучих ро..сипано по н..бесах, неначе квіточок пахуч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6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ензлем зорі домал..овано ні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7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І світанок вже намал..овано пензлем пір’їстим зо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8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А тиша — наче в вуха влито ві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9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Дивне місто проти сонця! Всі взолочено вікон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Дмитрий\Desktop\тетрадь (2).gif"/>
          <p:cNvPicPr/>
          <p:nvPr/>
        </p:nvPicPr>
        <p:blipFill>
          <a:blip r:embed="rId1"/>
          <a:stretch/>
        </p:blipFill>
        <p:spPr>
          <a:xfrm>
            <a:off x="6732720" y="3933720"/>
            <a:ext cx="21873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одним вырезанным углом 3"/>
          <p:cNvSpPr/>
          <p:nvPr/>
        </p:nvSpPr>
        <p:spPr>
          <a:xfrm>
            <a:off x="1096920" y="349200"/>
            <a:ext cx="6950160" cy="1049400"/>
          </a:xfrm>
          <a:custGeom>
            <a:avLst/>
            <a:gdLst>
              <a:gd name="textAreaLeft" fmla="*/ 0 w 6950160"/>
              <a:gd name="textAreaRight" fmla="*/ 6863040 w 6950160"/>
              <a:gd name="textAreaTop" fmla="*/ 87480 h 1049400"/>
              <a:gd name="textAreaBottom" fmla="*/ 1049760 h 1049400"/>
            </a:gdLst>
            <a:ahLst/>
            <a:rect l="textAreaLeft" t="textAreaTop" r="textAreaRight" b="textAreaBottom"/>
            <a:pathLst>
              <a:path w="6950075" h="1049338">
                <a:moveTo>
                  <a:pt x="0" y="0"/>
                </a:moveTo>
                <a:lnTo>
                  <a:pt x="6775182" y="0"/>
                </a:lnTo>
                <a:lnTo>
                  <a:pt x="6950075" y="174893"/>
                </a:lnTo>
                <a:lnTo>
                  <a:pt x="6950075" y="1049338"/>
                </a:lnTo>
                <a:lnTo>
                  <a:pt x="0" y="1049338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881360" y="458640"/>
            <a:ext cx="53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закінчення, визначте відмінок дієприкме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476360" y="19368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на хвилююч.. зустрі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у замкнен.. буд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аквітчан.. волосс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обіліл.. земл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ро залит.. світлом не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веселіл.. прир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зів’ял.. лис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нечуван.. радіст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ро зачудова.. с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Дмитрий\Desktop\книга 9.gif"/>
          <p:cNvPicPr/>
          <p:nvPr/>
        </p:nvPicPr>
        <p:blipFill>
          <a:blip r:embed="rId1"/>
          <a:stretch/>
        </p:blipFill>
        <p:spPr>
          <a:xfrm>
            <a:off x="5364000" y="3645000"/>
            <a:ext cx="26895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с одним вырезанным углом 5"/>
          <p:cNvSpPr/>
          <p:nvPr/>
        </p:nvSpPr>
        <p:spPr>
          <a:xfrm>
            <a:off x="2484360" y="2673360"/>
            <a:ext cx="5369040" cy="1049400"/>
          </a:xfrm>
          <a:custGeom>
            <a:avLst/>
            <a:gdLst>
              <a:gd name="textAreaLeft" fmla="*/ 0 w 5369040"/>
              <a:gd name="textAreaRight" fmla="*/ 5281920 w 5369040"/>
              <a:gd name="textAreaTop" fmla="*/ 87480 h 1049400"/>
              <a:gd name="textAreaBottom" fmla="*/ 1049760 h 1049400"/>
            </a:gdLst>
            <a:ahLst/>
            <a:rect l="textAreaLeft" t="textAreaTop" r="textAreaRight" b="textAreaBottom"/>
            <a:pathLst>
              <a:path w="5368925" h="1049338">
                <a:moveTo>
                  <a:pt x="0" y="0"/>
                </a:moveTo>
                <a:lnTo>
                  <a:pt x="5194032" y="0"/>
                </a:lnTo>
                <a:lnTo>
                  <a:pt x="5368925" y="174893"/>
                </a:lnTo>
                <a:lnTo>
                  <a:pt x="5368925" y="1049338"/>
                </a:lnTo>
                <a:lnTo>
                  <a:pt x="0" y="1049338"/>
                </a:lnTo>
                <a:close/>
              </a:path>
            </a:pathLst>
          </a:custGeom>
          <a:solidFill>
            <a:srgbClr val="fdeada"/>
          </a:solidFill>
          <a:ln w="381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995200" y="296712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незбагненний, незліч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с одним вырезанным углом 4"/>
          <p:cNvSpPr/>
          <p:nvPr/>
        </p:nvSpPr>
        <p:spPr>
          <a:xfrm>
            <a:off x="468360" y="588960"/>
            <a:ext cx="8064360" cy="1798560"/>
          </a:xfrm>
          <a:custGeom>
            <a:avLst/>
            <a:gdLst>
              <a:gd name="textAreaLeft" fmla="*/ 0 w 8064360"/>
              <a:gd name="textAreaRight" fmla="*/ 7914600 w 8064360"/>
              <a:gd name="textAreaTop" fmla="*/ 149760 h 1798560"/>
              <a:gd name="textAreaBottom" fmla="*/ 1798920 h 1798560"/>
            </a:gdLst>
            <a:ahLst/>
            <a:rect l="textAreaLeft" t="textAreaTop" r="textAreaRight" b="textAreaBottom"/>
            <a:pathLst>
              <a:path w="8064500" h="1798637">
                <a:moveTo>
                  <a:pt x="0" y="0"/>
                </a:moveTo>
                <a:lnTo>
                  <a:pt x="7764721" y="0"/>
                </a:lnTo>
                <a:lnTo>
                  <a:pt x="8064500" y="299779"/>
                </a:lnTo>
                <a:lnTo>
                  <a:pt x="8064500" y="1798637"/>
                </a:lnTo>
                <a:lnTo>
                  <a:pt x="0" y="1798637"/>
                </a:lnTo>
                <a:close/>
              </a:path>
            </a:pathLst>
          </a:custGeom>
          <a:solidFill>
            <a:srgbClr val="ebf1de"/>
          </a:solidFill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611280" y="68580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Одна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-н‑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ишемо у суфіксах пасивних дієприкметників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‑н‑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і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-ен-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. Дві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-н‑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ишемо в наголошених суфіксах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-енн-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-анн-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рикметників, що вказують на найвищу міру о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Дмитрий\Desktop\книга02.gif"/>
          <p:cNvPicPr/>
          <p:nvPr/>
        </p:nvPicPr>
        <p:blipFill>
          <a:blip r:embed="rId1"/>
          <a:stretch/>
        </p:blipFill>
        <p:spPr>
          <a:xfrm>
            <a:off x="3203640" y="4259160"/>
            <a:ext cx="3645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с одним вырезанным углом 3"/>
          <p:cNvSpPr/>
          <p:nvPr/>
        </p:nvSpPr>
        <p:spPr>
          <a:xfrm>
            <a:off x="890640" y="333360"/>
            <a:ext cx="7488360" cy="1227240"/>
          </a:xfrm>
          <a:custGeom>
            <a:avLst/>
            <a:gdLst>
              <a:gd name="textAreaLeft" fmla="*/ 0 w 7488360"/>
              <a:gd name="textAreaRight" fmla="*/ 7386120 w 7488360"/>
              <a:gd name="textAreaTop" fmla="*/ 102240 h 1227240"/>
              <a:gd name="textAreaBottom" fmla="*/ 1227600 h 1227240"/>
            </a:gdLst>
            <a:ahLst/>
            <a:rect l="textAreaLeft" t="textAreaTop" r="textAreaRight" b="textAreaBottom"/>
            <a:pathLst>
              <a:path w="7488237" h="1227138">
                <a:moveTo>
                  <a:pt x="0" y="0"/>
                </a:moveTo>
                <a:lnTo>
                  <a:pt x="7283710" y="0"/>
                </a:lnTo>
                <a:lnTo>
                  <a:pt x="7488237" y="204527"/>
                </a:lnTo>
                <a:lnTo>
                  <a:pt x="7488237" y="1227138"/>
                </a:lnTo>
                <a:lnTo>
                  <a:pt x="0" y="1227138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305000" y="360360"/>
            <a:ext cx="70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речення, поясніть правопис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-н‑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у дієприкметниках та </a:t>
            </a: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-нн-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у прикметниках дієприкметникового поход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39640" y="1916280"/>
            <a:ext cx="68040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Слово Шевченкове — незнищенне, бо він закодував у ньому українську душу, саме єство українц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І нездоланна ти, Отчизно непокірна!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До світла — нескінченний шл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Я за тебе не забуду, незліченними гадками все тобі являться бу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79646"/>
                </a:solidFill>
                <a:latin typeface="Arial"/>
              </a:rPr>
              <a:t>5.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Була вечеря не свята й не тайна, та повна дум величних, небуденних і почуттів жагучих, незбагненних, які в слова не втиснути нія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79646"/>
                </a:solidFill>
                <a:latin typeface="Arial"/>
              </a:rPr>
              <a:t>6. </a:t>
            </a:r>
            <a:r>
              <a:rPr b="1" i="1" lang="uk-UA" sz="2200" spc="-1" strike="noStrike">
                <a:solidFill>
                  <a:srgbClr val="00b050"/>
                </a:solidFill>
                <a:latin typeface="Arial"/>
              </a:rPr>
              <a:t>Я відчував, що беру участь у якійсь незбагненній г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Users\Дмитрий\Desktop\книга02.gif"/>
          <p:cNvPicPr/>
          <p:nvPr/>
        </p:nvPicPr>
        <p:blipFill>
          <a:blip r:embed="rId1"/>
          <a:stretch/>
        </p:blipFill>
        <p:spPr>
          <a:xfrm>
            <a:off x="6443640" y="4941720"/>
            <a:ext cx="2363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Дмитрий\Desktop\451456970.jpg"/>
          <p:cNvPicPr/>
          <p:nvPr/>
        </p:nvPicPr>
        <p:blipFill>
          <a:blip r:embed="rId1"/>
          <a:stretch/>
        </p:blipFill>
        <p:spPr>
          <a:xfrm>
            <a:off x="1468440" y="404640"/>
            <a:ext cx="6186600" cy="47358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674640" y="53737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Флейта з паростка рогу північного оленя, відшукана на стоянці часів палеоліту (Чернівецька обл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979640" y="558972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Найдавніше зображення музик (фреска Софійського собо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Users\Дмитрий\Desktop\673097022.jpg"/>
          <p:cNvPicPr/>
          <p:nvPr/>
        </p:nvPicPr>
        <p:blipFill>
          <a:blip r:embed="rId1"/>
          <a:stretch/>
        </p:blipFill>
        <p:spPr>
          <a:xfrm>
            <a:off x="1035000" y="476280"/>
            <a:ext cx="7128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с одним вырезанным углом 3"/>
          <p:cNvSpPr/>
          <p:nvPr/>
        </p:nvSpPr>
        <p:spPr>
          <a:xfrm>
            <a:off x="826920" y="326880"/>
            <a:ext cx="7490160" cy="1227240"/>
          </a:xfrm>
          <a:custGeom>
            <a:avLst/>
            <a:gdLst>
              <a:gd name="textAreaLeft" fmla="*/ 0 w 7490160"/>
              <a:gd name="textAreaRight" fmla="*/ 7387920 w 7490160"/>
              <a:gd name="textAreaTop" fmla="*/ 102240 h 1227240"/>
              <a:gd name="textAreaBottom" fmla="*/ 1227600 h 1227240"/>
            </a:gdLst>
            <a:ahLst/>
            <a:rect l="textAreaLeft" t="textAreaTop" r="textAreaRight" b="textAreaBottom"/>
            <a:pathLst>
              <a:path w="7489825" h="1227138">
                <a:moveTo>
                  <a:pt x="0" y="0"/>
                </a:moveTo>
                <a:lnTo>
                  <a:pt x="7285298" y="0"/>
                </a:lnTo>
                <a:lnTo>
                  <a:pt x="7489825" y="204527"/>
                </a:lnTo>
                <a:lnTo>
                  <a:pt x="7489825" y="1227138"/>
                </a:lnTo>
                <a:lnTo>
                  <a:pt x="0" y="1227138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987640" y="5256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кладіть пари речень до наведених с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881360" y="1989000"/>
            <a:ext cx="53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Нездійснений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— нездійсн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Нездоланий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— нездола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Несказаний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 — несказа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:\Users\Дмитрий\Desktop\книга02.gif"/>
          <p:cNvPicPr/>
          <p:nvPr/>
        </p:nvPicPr>
        <p:blipFill>
          <a:blip r:embed="rId1"/>
          <a:stretch/>
        </p:blipFill>
        <p:spPr>
          <a:xfrm>
            <a:off x="3276720" y="4257720"/>
            <a:ext cx="36432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с одним вырезанным углом 3"/>
          <p:cNvSpPr/>
          <p:nvPr/>
        </p:nvSpPr>
        <p:spPr>
          <a:xfrm>
            <a:off x="826920" y="326880"/>
            <a:ext cx="7490160" cy="1227240"/>
          </a:xfrm>
          <a:custGeom>
            <a:avLst/>
            <a:gdLst>
              <a:gd name="textAreaLeft" fmla="*/ 0 w 7490160"/>
              <a:gd name="textAreaRight" fmla="*/ 7387920 w 7490160"/>
              <a:gd name="textAreaTop" fmla="*/ 102240 h 1227240"/>
              <a:gd name="textAreaBottom" fmla="*/ 1227600 h 1227240"/>
            </a:gdLst>
            <a:ahLst/>
            <a:rect l="textAreaLeft" t="textAreaTop" r="textAreaRight" b="textAreaBottom"/>
            <a:pathLst>
              <a:path w="7489825" h="1227138">
                <a:moveTo>
                  <a:pt x="0" y="0"/>
                </a:moveTo>
                <a:lnTo>
                  <a:pt x="7285298" y="0"/>
                </a:lnTo>
                <a:lnTo>
                  <a:pt x="7489825" y="204527"/>
                </a:lnTo>
                <a:lnTo>
                  <a:pt x="7489825" y="1227138"/>
                </a:lnTo>
                <a:lnTo>
                  <a:pt x="0" y="1227138"/>
                </a:lnTo>
                <a:close/>
              </a:path>
            </a:pathLst>
          </a:custGeom>
          <a:solidFill>
            <a:srgbClr val="dbeef4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286000" y="5256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Запишіть речення, обравши правильну бу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503280" y="177336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1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Що погано (з‑, с‑)ховано, те викин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2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То широко закроєно, проте вузько (з‑,с‑)ши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3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То дуже мудро, що на снігу (с‑, з‑)печ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(При-, пре-) йшов рано, аж не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5. </a:t>
            </a: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Що (з‑,с‑)сказано, має бути (з‑,с‑)роб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Users\Дмитрий\Desktop\Untitled2-2.gif"/>
          <p:cNvPicPr/>
          <p:nvPr/>
        </p:nvPicPr>
        <p:blipFill>
          <a:blip r:embed="rId1"/>
          <a:stretch/>
        </p:blipFill>
        <p:spPr>
          <a:xfrm>
            <a:off x="3951360" y="4797360"/>
            <a:ext cx="2388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k10-4</cp:lastModifiedBy>
  <dcterms:modified xsi:type="dcterms:W3CDTF">2016-05-11T12:07:21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