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2C78-952C-4A2C-A573-A0447C8A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C4E-C317-4930-AD99-07943096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276-95CC-4D80-8FE8-0A02D140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AAC6-B19C-4EC2-9517-E593DB86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D32-639C-4AA3-869F-CED791D8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2B6-88AF-4830-850A-E728B555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A1F8-B1BB-46D1-A3E6-657EBDFB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2840-BEFB-4807-9E9C-B4F8B9A1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BCC-06C9-4A74-94AC-87AB2B6A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534-B39D-458B-889B-7CB4C37A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DC0-137C-4027-B24E-F6C396B9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5655-5E13-4363-883F-17432866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FCC2-D970-40B0-80D8-C795FE51D9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119160" y="6093000"/>
            <a:ext cx="884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езентацію створено за допомогою комп’ютерної програми  ВГ «Основа» «Електронний конструктор уроку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942840" y="4437000"/>
            <a:ext cx="7199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b050"/>
                </a:solidFill>
                <a:latin typeface="Arial"/>
              </a:rPr>
              <a:t>ТВОРЕННЯ Й ВІДМІНЮВАННЯ АКТИВНИХ І ПАСИВНИХ ДІЄПРИКМЕТНИКІВ ТЕПЕРІШНЬОГО Й МИНУЛОГО ЧАС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Users\Дмитрий\Desktop\книги 23.gif"/>
          <p:cNvPicPr/>
          <p:nvPr/>
        </p:nvPicPr>
        <p:blipFill>
          <a:blip r:embed="rId1"/>
          <a:stretch/>
        </p:blipFill>
        <p:spPr>
          <a:xfrm>
            <a:off x="2746440" y="912960"/>
            <a:ext cx="35924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1919160" y="184464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5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Руді стежки роз’їдені дощ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документ 2"/>
          <p:cNvSpPr/>
          <p:nvPr/>
        </p:nvSpPr>
        <p:spPr>
          <a:xfrm>
            <a:off x="395280" y="333360"/>
            <a:ext cx="8209080" cy="1224000"/>
          </a:xfrm>
          <a:prstGeom prst="flowChartDocument">
            <a:avLst/>
          </a:prstGeom>
          <a:solidFill>
            <a:srgbClr val="dbee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826920" y="4539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Випишіть дієприкметники, визначте їхній розряд та відмінок, поясніть, як вони утворе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C:\Users\Дмитрий\Desktop\b871bcfe1841c64c38e501e55e380973_i-955.jpg"/>
          <p:cNvPicPr/>
          <p:nvPr/>
        </p:nvPicPr>
        <p:blipFill>
          <a:blip r:embed="rId1"/>
          <a:stretch/>
        </p:blipFill>
        <p:spPr>
          <a:xfrm>
            <a:off x="1579680" y="2523960"/>
            <a:ext cx="58402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329480" y="1844640"/>
            <a:ext cx="63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6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Жаліються комусь оголені башт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лок-схема: документ 2"/>
          <p:cNvSpPr/>
          <p:nvPr/>
        </p:nvSpPr>
        <p:spPr>
          <a:xfrm>
            <a:off x="395280" y="333360"/>
            <a:ext cx="8209080" cy="1224000"/>
          </a:xfrm>
          <a:prstGeom prst="flowChartDocument">
            <a:avLst/>
          </a:prstGeom>
          <a:solidFill>
            <a:srgbClr val="dbee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826920" y="4539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Випишіть дієприкметники, визначте їхній розряд та відмінок, поясніть, як вони утворе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C:\Users\Дмитрий\Desktop\menshikovo.jpg"/>
          <p:cNvPicPr/>
          <p:nvPr/>
        </p:nvPicPr>
        <p:blipFill>
          <a:blip r:embed="rId1"/>
          <a:stretch/>
        </p:blipFill>
        <p:spPr>
          <a:xfrm>
            <a:off x="1023840" y="2492280"/>
            <a:ext cx="69516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2097000" y="1844640"/>
            <a:ext cx="48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7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Спить трактор надворі, накритий дощами й тише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Блок-схема: документ 2"/>
          <p:cNvSpPr/>
          <p:nvPr/>
        </p:nvSpPr>
        <p:spPr>
          <a:xfrm>
            <a:off x="395280" y="333360"/>
            <a:ext cx="8209080" cy="1224000"/>
          </a:xfrm>
          <a:prstGeom prst="flowChartDocument">
            <a:avLst/>
          </a:prstGeom>
          <a:solidFill>
            <a:srgbClr val="dbee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826920" y="4539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Випишіть дієприкметники, визначте їхній розряд та відмінок, поясніть, як вони утворе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C:\Users\Дмитрий\Desktop\traktor_belarus.jpg"/>
          <p:cNvPicPr/>
          <p:nvPr/>
        </p:nvPicPr>
        <p:blipFill>
          <a:blip r:embed="rId1"/>
          <a:srcRect l="0" t="10079" r="0" b="0"/>
          <a:stretch/>
        </p:blipFill>
        <p:spPr>
          <a:xfrm>
            <a:off x="1785960" y="2857680"/>
            <a:ext cx="542772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C:\Users\Дмитрий\Desktop\850036721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88" name="Горизонтальный свиток 2"/>
          <p:cNvSpPr/>
          <p:nvPr/>
        </p:nvSpPr>
        <p:spPr>
          <a:xfrm>
            <a:off x="1727280" y="5505480"/>
            <a:ext cx="5689440" cy="86364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2338920" y="5675400"/>
            <a:ext cx="44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9646"/>
                </a:solidFill>
                <a:latin typeface="Arial"/>
              </a:rPr>
              <a:t>«За що я люблю зиму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684360" y="679320"/>
            <a:ext cx="7835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9646"/>
                </a:solidFill>
                <a:latin typeface="Arial"/>
              </a:rPr>
              <a:t>Домашнє завдання (за вибор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70c0"/>
                </a:solidFill>
                <a:latin typeface="Arial"/>
              </a:rPr>
              <a:t>Виконайте вправу з підруч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70c0"/>
                </a:solidFill>
                <a:latin typeface="Arial"/>
              </a:rPr>
              <a:t>Складіть два речення з дієприкметниками. Провідміняйте один із дієприкметник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C:\Users\Дмитрий\Desktop\book-and-fountain-pen.gif"/>
          <p:cNvPicPr/>
          <p:nvPr/>
        </p:nvPicPr>
        <p:blipFill>
          <a:blip r:embed="rId1"/>
          <a:stretch/>
        </p:blipFill>
        <p:spPr>
          <a:xfrm>
            <a:off x="4211640" y="3357720"/>
            <a:ext cx="33256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Объект 2"/>
          <p:cNvSpPr/>
          <p:nvPr/>
        </p:nvSpPr>
        <p:spPr>
          <a:xfrm>
            <a:off x="328680" y="692280"/>
            <a:ext cx="852804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езентацію створено за допомогою комп’ютерної програми  ВГ «Основа» «Електронний конструктор уроку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© ТОВ «Видавнича група Основа», 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жерел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Усі уроки української мови. 7 клас. І семестр / Є. П. Голобородько, К. Ю. Голобородько, О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. Павлик, С. В. Мунтян, І. А. Бондаренко. — Х. : Вид. група «Основа», 2015. — 237, [3] с. —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Серія «Усі уроки»). — ISBN 978-617-00-2470-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050920" y="5516640"/>
            <a:ext cx="51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70c0"/>
                </a:solidFill>
                <a:latin typeface="Arial"/>
              </a:rPr>
              <a:t>Тихі</a:t>
            </a:r>
            <a:r>
              <a:rPr b="1" i="1" lang="uk-UA" sz="2400" spc="-1" strike="noStrike" baseline="30000">
                <a:solidFill>
                  <a:srgbClr val="0070c0"/>
                </a:solidFill>
                <a:latin typeface="Arial"/>
              </a:rPr>
              <a:t>3</a:t>
            </a:r>
            <a:r>
              <a:rPr b="1" i="1" lang="uk-UA" sz="2400" spc="-1" strike="noStrike">
                <a:solidFill>
                  <a:srgbClr val="0070c0"/>
                </a:solidFill>
                <a:latin typeface="Arial"/>
              </a:rPr>
              <a:t> сутінки поволі почали</a:t>
            </a:r>
            <a:r>
              <a:rPr b="1" i="1" lang="uk-UA" sz="2400" spc="-1" strike="noStrike" baseline="30000">
                <a:solidFill>
                  <a:srgbClr val="0070c0"/>
                </a:solidFill>
                <a:latin typeface="Arial"/>
              </a:rPr>
              <a:t>3</a:t>
            </a:r>
            <a:r>
              <a:rPr b="1" i="1" lang="uk-UA" sz="2400" spc="-1" strike="noStrike">
                <a:solidFill>
                  <a:srgbClr val="0070c0"/>
                </a:solidFill>
                <a:latin typeface="Arial"/>
              </a:rPr>
              <a:t> спускатися з поблідлого</a:t>
            </a:r>
            <a:r>
              <a:rPr b="1" i="1" lang="uk-UA" sz="2400" spc="-1" strike="noStrike" baseline="30000">
                <a:solidFill>
                  <a:srgbClr val="0070c0"/>
                </a:solidFill>
                <a:latin typeface="Arial"/>
              </a:rPr>
              <a:t>3</a:t>
            </a:r>
            <a:r>
              <a:rPr b="1" i="1" lang="uk-UA" sz="2400" spc="-1" strike="noStrike">
                <a:solidFill>
                  <a:srgbClr val="0070c0"/>
                </a:solidFill>
                <a:latin typeface="Arial"/>
              </a:rPr>
              <a:t> н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C:\Users\Дмитрий\Desktop\Vytach_IMG_7266.jpg"/>
          <p:cNvPicPr/>
          <p:nvPr/>
        </p:nvPicPr>
        <p:blipFill>
          <a:blip r:embed="rId1"/>
          <a:stretch/>
        </p:blipFill>
        <p:spPr>
          <a:xfrm>
            <a:off x="934920" y="333360"/>
            <a:ext cx="741708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39640" y="620640"/>
          <a:ext cx="8064720" cy="3292560"/>
        </p:xfrm>
        <a:graphic>
          <a:graphicData uri="http://schemas.openxmlformats.org/drawingml/2006/table">
            <a:tbl>
              <a:tblPr/>
              <a:tblGrid>
                <a:gridCol w="4149720"/>
                <a:gridCol w="3915000"/>
              </a:tblGrid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Активні дієприкмет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Пасивні дієприкмет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92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керувати → керу|ють → керу- + -юч- = керуюч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лежати → леж|ать → леж- + -ач- = лежач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посивіти → посиві|ти → посиві- + -л‑= посивіл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бити → би|ти → би- → + -т‑= бит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принести → принес|ти + -ен- = принес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Picture 1" descr="C:\Users\Дмитрий\Desktop\блокнот.gif"/>
          <p:cNvPicPr/>
          <p:nvPr/>
        </p:nvPicPr>
        <p:blipFill>
          <a:blip r:embed="rId1"/>
          <a:stretch/>
        </p:blipFill>
        <p:spPr>
          <a:xfrm>
            <a:off x="5148360" y="3357720"/>
            <a:ext cx="240012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Блок-схема: документ 4"/>
          <p:cNvSpPr/>
          <p:nvPr/>
        </p:nvSpPr>
        <p:spPr>
          <a:xfrm>
            <a:off x="738360" y="333360"/>
            <a:ext cx="7416720" cy="1224000"/>
          </a:xfrm>
          <a:prstGeom prst="flowChartDocument">
            <a:avLst/>
          </a:prstGeom>
          <a:solidFill>
            <a:srgbClr val="dbee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900000" y="404640"/>
            <a:ext cx="70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Утворіть від дієслів пасивні дієприкметники, запишіть їх, виділіть у них суфік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738360" y="256536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50"/>
                </a:solidFill>
                <a:latin typeface="Arial"/>
              </a:rPr>
              <a:t>c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казати, принести, закрити, почати, перетерти, сформулювати, перебити, вимовити, забути, зд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2717280" y="1773360"/>
            <a:ext cx="49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Зразок: </a:t>
            </a:r>
            <a:r>
              <a:rPr b="1" lang="uk-UA" sz="2400" spc="-1" strike="noStrike">
                <a:solidFill>
                  <a:srgbClr val="00b050"/>
                </a:solidFill>
                <a:latin typeface="Arial"/>
              </a:rPr>
              <a:t>Створити — ство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C:\Users\Дмитрий\Desktop\тетрадь (4).gif"/>
          <p:cNvPicPr/>
          <p:nvPr/>
        </p:nvPicPr>
        <p:blipFill>
          <a:blip r:embed="rId1"/>
          <a:stretch/>
        </p:blipFill>
        <p:spPr>
          <a:xfrm>
            <a:off x="5292720" y="4149720"/>
            <a:ext cx="213840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Блок-схема: документ 4"/>
          <p:cNvSpPr/>
          <p:nvPr/>
        </p:nvSpPr>
        <p:spPr>
          <a:xfrm>
            <a:off x="738360" y="333360"/>
            <a:ext cx="7416720" cy="1224000"/>
          </a:xfrm>
          <a:prstGeom prst="flowChartDocument">
            <a:avLst/>
          </a:prstGeom>
          <a:solidFill>
            <a:srgbClr val="dbee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"/>
          <p:cNvSpPr/>
          <p:nvPr/>
        </p:nvSpPr>
        <p:spPr>
          <a:xfrm>
            <a:off x="900000" y="43812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Утворіть від дієслів активні дієприкметники, запишіть їх, виділіть у них суфік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1100160" y="2637000"/>
            <a:ext cx="669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червоніють, жевріють, зростають, плачуть, читають, сплять, бовваніють, дрижать, вабл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2561400" y="176364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Зразок: </a:t>
            </a:r>
            <a:r>
              <a:rPr b="1" lang="uk-UA" sz="2400" spc="-1" strike="noStrike">
                <a:solidFill>
                  <a:srgbClr val="00b050"/>
                </a:solidFill>
                <a:latin typeface="Arial"/>
              </a:rPr>
              <a:t>Світліють — світлію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C:\Users\Дмитрий\Desktop\тетрадь (4).gif"/>
          <p:cNvPicPr/>
          <p:nvPr/>
        </p:nvPicPr>
        <p:blipFill>
          <a:blip r:embed="rId1"/>
          <a:stretch/>
        </p:blipFill>
        <p:spPr>
          <a:xfrm>
            <a:off x="5292720" y="4149720"/>
            <a:ext cx="213840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Блок-схема: документ 3"/>
          <p:cNvSpPr/>
          <p:nvPr/>
        </p:nvSpPr>
        <p:spPr>
          <a:xfrm>
            <a:off x="395280" y="333360"/>
            <a:ext cx="8209080" cy="1224000"/>
          </a:xfrm>
          <a:prstGeom prst="flowChartDocument">
            <a:avLst/>
          </a:prstGeom>
          <a:solidFill>
            <a:srgbClr val="dbee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826920" y="4539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Випишіть дієприкметники, визначте їхній розряд та відмінок, поясніть, як вони утворе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1262520" y="1916280"/>
            <a:ext cx="65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1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Вгорі цвіте блакить, усіяна хмар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C:\Users\Дмитрий\Desktop\screenpaper-ru3475.jpg"/>
          <p:cNvPicPr/>
          <p:nvPr/>
        </p:nvPicPr>
        <p:blipFill>
          <a:blip r:embed="rId1"/>
          <a:srcRect l="0" t="9585" r="0" b="0"/>
          <a:stretch/>
        </p:blipFill>
        <p:spPr>
          <a:xfrm>
            <a:off x="1163520" y="2620800"/>
            <a:ext cx="6672240" cy="37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2214720" y="1844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2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Гарячі, пожовклі від болю стелились листки вос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лок-схема: документ 2"/>
          <p:cNvSpPr/>
          <p:nvPr/>
        </p:nvSpPr>
        <p:spPr>
          <a:xfrm>
            <a:off x="395280" y="333360"/>
            <a:ext cx="8209080" cy="1224000"/>
          </a:xfrm>
          <a:prstGeom prst="flowChartDocument">
            <a:avLst/>
          </a:prstGeom>
          <a:solidFill>
            <a:srgbClr val="dbee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826920" y="4539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Випишіть дієприкметники, визначте їхній розряд та відмінок, поясніть, як вони утворе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C:\Users\Дмитрий\Desktop\8520.jpg"/>
          <p:cNvPicPr/>
          <p:nvPr/>
        </p:nvPicPr>
        <p:blipFill>
          <a:blip r:embed="rId1"/>
          <a:stretch/>
        </p:blipFill>
        <p:spPr>
          <a:xfrm>
            <a:off x="1695600" y="2852640"/>
            <a:ext cx="561024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116000" y="176364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3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Жовтіє туга двох листків промерзлих, прибитих вітром із чужого с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Блок-схема: документ 2"/>
          <p:cNvSpPr/>
          <p:nvPr/>
        </p:nvSpPr>
        <p:spPr>
          <a:xfrm>
            <a:off x="395280" y="333360"/>
            <a:ext cx="8209080" cy="1224000"/>
          </a:xfrm>
          <a:prstGeom prst="flowChartDocument">
            <a:avLst/>
          </a:prstGeom>
          <a:solidFill>
            <a:srgbClr val="dbee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826920" y="4539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Випишіть дієприкметники, визначте їхній розряд та відмінок, поясніть, як вони утворе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C:\Users\Дмитрий\Desktop\Untitled-1.gif"/>
          <p:cNvPicPr/>
          <p:nvPr/>
        </p:nvPicPr>
        <p:blipFill>
          <a:blip r:embed="rId1"/>
          <a:stretch/>
        </p:blipFill>
        <p:spPr>
          <a:xfrm>
            <a:off x="1563840" y="3500280"/>
            <a:ext cx="2901960" cy="2232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Дмитрий\Desktop\list-3.gif"/>
          <p:cNvPicPr/>
          <p:nvPr/>
        </p:nvPicPr>
        <p:blipFill>
          <a:blip r:embed="rId2"/>
          <a:stretch/>
        </p:blipFill>
        <p:spPr>
          <a:xfrm>
            <a:off x="4309920" y="2914560"/>
            <a:ext cx="38102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4573440" y="4398840"/>
            <a:ext cx="401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4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А дрімаючій смереці лісова пожежа сн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документ 2"/>
          <p:cNvSpPr/>
          <p:nvPr/>
        </p:nvSpPr>
        <p:spPr>
          <a:xfrm>
            <a:off x="395280" y="333360"/>
            <a:ext cx="8209080" cy="1224000"/>
          </a:xfrm>
          <a:prstGeom prst="flowChartDocument">
            <a:avLst/>
          </a:prstGeom>
          <a:solidFill>
            <a:srgbClr val="dbee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826920" y="4539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Випишіть дієприкметники, визначте їхній розряд та відмінок, поясніть, як вони утворе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C:\Users\Дмитрий\Desktop\41859_212034_1324456840.jpeg"/>
          <p:cNvPicPr/>
          <p:nvPr/>
        </p:nvPicPr>
        <p:blipFill>
          <a:blip r:embed="rId1"/>
          <a:stretch/>
        </p:blipFill>
        <p:spPr>
          <a:xfrm>
            <a:off x="1187280" y="2165400"/>
            <a:ext cx="295308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5:28:58Z</dcterms:created>
  <dc:creator/>
  <dc:description/>
  <dc:language>en-US</dc:language>
  <cp:lastModifiedBy>k10-4</cp:lastModifiedBy>
  <dcterms:modified xsi:type="dcterms:W3CDTF">2016-05-11T12:01:59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ookName">
    <vt:lpwstr/>
  </property>
  <property fmtid="{D5CDD505-2E9C-101B-9397-08002B2CF9AE}" pid="3" name="IsFreeze">
    <vt:bool>0</vt:bool>
  </property>
  <property fmtid="{D5CDD505-2E9C-101B-9397-08002B2CF9AE}" pid="4" name="MayClose">
    <vt:bool>0</vt:bool>
  </property>
  <property fmtid="{D5CDD505-2E9C-101B-9397-08002B2CF9AE}" pid="5" name="UserClose">
    <vt:bool>0</vt:bool>
  </property>
</Properties>
</file>